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3795039"/>
        <c:axId val="77403000"/>
      </c:barChart>
      <c:catAx>
        <c:axId val="8379503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403000"/>
        <c:crosses val="autoZero"/>
        <c:auto val="1"/>
        <c:lblAlgn val="ctr"/>
        <c:lblOffset val="100"/>
        <c:noMultiLvlLbl val="0"/>
      </c:catAx>
      <c:valAx>
        <c:axId val="7740300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79503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0FDE-E6A7-4D6B-991C-623965B4A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BFAE-AB2F-40E9-B195-AA41EB706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5A41-20B9-4460-9ED5-F1A78CDEB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5F49-B619-4DF2-A301-C2CCC4B3C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3C90-DAC8-48A8-B017-26E4D55D7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C212-3D36-4082-86E5-67E8330AC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2C4C-3692-4116-9D6F-E88072FBA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237A-EE57-4797-810A-66EBC0528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F7F0-08A3-47DD-ADD4-894AFD1F5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9A0A-08F1-4ECA-9983-771DF5A28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A16D-EBD7-4283-B622-94E7C109D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BF95-7245-47AC-B233-4C2FDF815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290771-24F0-419C-880B-321FF407851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