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08577"/>
        <c:axId val="19893240"/>
      </c:barChart>
      <c:catAx>
        <c:axId val="31908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93240"/>
        <c:crosses val="autoZero"/>
        <c:auto val="1"/>
        <c:lblAlgn val="ctr"/>
        <c:lblOffset val="100"/>
        <c:noMultiLvlLbl val="0"/>
      </c:catAx>
      <c:valAx>
        <c:axId val="19893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08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33D-54F6-4759-9A63-2FC79C92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FD6-479F-4F80-83D3-3AD23BEB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542-8952-42A8-98BF-232FAC25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90E-7436-4AB8-9D87-64A73AD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E98-B3A0-4934-A102-DEB7D5F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2D8-5EEF-4C02-BF6E-E55E183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DD0-09F9-4D7C-8A3E-67B02D2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FE8-798B-43D7-8017-8447973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1BA-1660-4E1E-967D-1E1AAA5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79D-D485-4A3E-9BA6-A6C267C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B18-6C40-4BBD-B17A-E170842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0A7-317B-465A-BF99-08F9A4E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2B337-6575-49C4-B8C8-5C59722F5F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