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02294"/>
        <c:axId val="92177155"/>
      </c:barChart>
      <c:catAx>
        <c:axId val="50802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77155"/>
        <c:crosses val="autoZero"/>
        <c:auto val="1"/>
        <c:lblAlgn val="ctr"/>
        <c:lblOffset val="100"/>
        <c:noMultiLvlLbl val="0"/>
      </c:catAx>
      <c:valAx>
        <c:axId val="92177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2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5FA-BD84-4874-B1EC-8533ADB6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A98-7CA8-4632-AFA8-286DDF90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7E1-B230-4C0D-8C70-0C83BA32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1EB-66CC-4F3B-81F3-643714F2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E4B-CB6C-407F-9246-A0496A03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F77-15E7-44C0-BAE3-999EE6F5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3F1-45DF-49A4-959A-13ED2BD5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F73-F7AB-4EF7-8579-34025ECF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61E-92FA-4DD8-9D6D-227880B8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9BB-5A77-4BBD-9310-C8100F2E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9DC-FCE4-4781-8636-208F750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C3E-53F8-4346-9010-E85D2F2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C441E-F2DD-4ABF-9C6A-6E65CFB1AF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