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86172"/>
        <c:axId val="25823127"/>
      </c:barChart>
      <c:catAx>
        <c:axId val="12986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23127"/>
        <c:crosses val="autoZero"/>
        <c:auto val="1"/>
        <c:lblAlgn val="ctr"/>
        <c:lblOffset val="100"/>
        <c:noMultiLvlLbl val="0"/>
      </c:catAx>
      <c:valAx>
        <c:axId val="25823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86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E93-AF9B-45F3-A8B2-99A86DE6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600-997D-40C7-B89E-26DCA076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310-9763-434B-9EE2-40553AF0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8E5-140A-4647-A5BE-E48C602B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D56-95E4-4D31-BBA5-5B969092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112-97B8-487E-9D25-C1FFDF13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4BA-8819-4AFC-BCD7-8CBBD182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F87-A457-4AC9-99D7-C57AE669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6D5-180D-4C03-BCBC-82F78153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CF0-E6D8-402E-87D1-C1B78D03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68A-2499-430A-B479-A967B2C7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425-F8EE-49E0-A0DC-2E979109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DCB2C-3B27-483C-A126-02F9801AB4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