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67397"/>
        <c:axId val="25156660"/>
      </c:barChart>
      <c:catAx>
        <c:axId val="27367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56660"/>
        <c:crosses val="autoZero"/>
        <c:auto val="1"/>
        <c:lblAlgn val="ctr"/>
        <c:lblOffset val="100"/>
        <c:noMultiLvlLbl val="0"/>
      </c:catAx>
      <c:valAx>
        <c:axId val="25156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67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B8D-0E72-4CFB-9898-7CDC7CB4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F32-6504-4AE0-9673-3E7019C3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CE7-34FB-468F-9B0F-7530AE4F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D2E-9128-454B-B067-A799886B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39B-3407-42F2-83BA-8A153684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74A-8E37-446B-A457-8D2D21E6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F84-84AB-4419-88AA-E3593553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636-91DC-42CC-BBC7-8299AA7D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92B-AA4A-4EF7-8784-85765917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25E-D7BF-46F7-B0BB-DE42CD5D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E2A-38FC-4D9F-8F69-215F8D96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FE3-11F4-4CC2-9BF0-C0883DE5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896DA-6A7A-4343-9873-1CA082536B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