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75129"/>
        <c:axId val="11395904"/>
      </c:barChart>
      <c:catAx>
        <c:axId val="49875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95904"/>
        <c:crosses val="autoZero"/>
        <c:auto val="1"/>
        <c:lblAlgn val="ctr"/>
        <c:lblOffset val="100"/>
        <c:noMultiLvlLbl val="0"/>
      </c:catAx>
      <c:valAx>
        <c:axId val="11395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75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9DE-A795-4990-A982-72BB2673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87F-22BC-4644-A935-2419EC47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9A1C-3A21-4EBD-8992-017B6654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D21-B2CB-438B-ADBF-32E34878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892-24CA-4EC5-AC5D-591C7288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122-6422-495F-927C-94B7ADE0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8EE1-A2FF-4AE7-96D3-2D27BBE3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3B4-D7F4-43AF-814B-26EAED21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28D-95C0-4731-8836-351E6143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E7E-D08A-4728-A099-973A26F9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989-F7C1-4598-B8E8-C34E04CC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75B-6E3C-4EB5-99F6-59B96673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C4F50-E6E3-4C2B-B7BE-8D03E4FAA9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