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2266"/>
        <c:axId val="33449117"/>
      </c:barChart>
      <c:catAx>
        <c:axId val="9492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49117"/>
        <c:crosses val="autoZero"/>
        <c:auto val="1"/>
        <c:lblAlgn val="ctr"/>
        <c:lblOffset val="100"/>
        <c:noMultiLvlLbl val="0"/>
      </c:catAx>
      <c:valAx>
        <c:axId val="334491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2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B43-9D08-431B-9A81-68E34047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602A-8328-4EAC-940F-0F68BFF5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BE45-0F6A-4C13-8D2E-316D7442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5DD-D200-473C-9565-BDD873BD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5FE-9A7C-4C51-A58F-DDF0B58F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C9B-8EB7-4602-B76D-88AAF2EE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2BB9-EA0C-4C1A-963B-5A2B762F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F7E-CFF2-488A-A6CE-774C9E1E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E09-D473-493E-9EF7-DF9D03A7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74E5-4A9E-406F-A0CD-399631B1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1B9-DFB3-4575-A888-75C872F9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838-DDEC-4479-94D5-1BD363BC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FF613-3E65-42FC-8DB7-CB3EADD666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