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07484"/>
        <c:axId val="47985521"/>
      </c:barChart>
      <c:catAx>
        <c:axId val="20307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85521"/>
        <c:crosses val="autoZero"/>
        <c:auto val="1"/>
        <c:lblAlgn val="ctr"/>
        <c:lblOffset val="100"/>
        <c:noMultiLvlLbl val="0"/>
      </c:catAx>
      <c:valAx>
        <c:axId val="47985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07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059-C81E-490F-A60F-C1530999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467-0CFF-4934-87EC-0D0D855D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99E-9759-4A87-AAB0-8A2D912A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7DC-4289-45F7-BCD6-0E40CBD9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0B5-DE40-48EB-899B-9494DEC8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17A-1683-469C-A474-D542EF57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91E-21CB-48B9-BF27-4A09DD1B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E3D-61A1-4C36-B92C-305BD1A3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AC7-A33C-415A-BCE7-5B68744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566-FECE-41E6-8061-3F7B7003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3DF-8388-403C-94AB-768EE2A1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7F9-A50A-4892-B3A8-327A96AC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B5585-D676-4565-8871-4A23EDEC46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