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89666"/>
        <c:axId val="98817305"/>
      </c:barChart>
      <c:catAx>
        <c:axId val="35089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17305"/>
        <c:crosses val="autoZero"/>
        <c:auto val="1"/>
        <c:lblAlgn val="ctr"/>
        <c:lblOffset val="100"/>
        <c:noMultiLvlLbl val="0"/>
      </c:catAx>
      <c:valAx>
        <c:axId val="98817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89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467-3861-40B1-8085-CBF946D7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0FF-CCEB-41C8-BF75-2042843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26A-00EC-4289-902F-485FFE0C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D95-7924-4B72-8314-7FC34D82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9FE-BEE5-4323-8C62-A4232521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614-EB55-492F-80AC-1B1F02F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CB9-109B-4BC9-9276-838D9272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7FD-64E4-4A66-871F-31BB268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4CB-D89D-408C-BD37-EF92801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D45-27AC-413E-8454-80182B8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8B9-8B6F-461E-A21B-A2117538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BA3-C113-42CA-87B1-11295EC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194C-04D0-4C96-BC37-A30E51BED0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