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78083"/>
        <c:axId val="73490489"/>
      </c:barChart>
      <c:catAx>
        <c:axId val="80778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0489"/>
        <c:crosses val="autoZero"/>
        <c:auto val="1"/>
        <c:lblAlgn val="ctr"/>
        <c:lblOffset val="100"/>
        <c:noMultiLvlLbl val="0"/>
      </c:catAx>
      <c:valAx>
        <c:axId val="73490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78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AF5-C4A9-4914-9550-CD506E38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2D6-84DB-4A35-9162-80CA2112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68D-33D1-4115-87AE-40B059A0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73F-2B29-4886-B7B9-43DE47E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8AB-674F-490C-8E11-43DDFB5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C4E-2361-487F-8070-60A140D6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41E-1C2A-426B-AEE3-972A205F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5D2-E442-4001-92AF-66367A5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81C-CA14-457A-8192-EFF8FAB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CD5-D681-4161-8979-E429C834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DE2-0E64-4273-B368-E6EF93C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68A-2BA8-4D7F-9F0A-E3AFDD8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2728B-A69C-406E-9B3D-C3B45D2631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