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7355580"/>
        <c:axId val="42967274"/>
      </c:barChart>
      <c:catAx>
        <c:axId val="8735558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2967274"/>
        <c:crosses val="autoZero"/>
        <c:auto val="1"/>
        <c:lblAlgn val="ctr"/>
        <c:lblOffset val="100"/>
        <c:noMultiLvlLbl val="0"/>
      </c:catAx>
      <c:valAx>
        <c:axId val="429672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35558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48A5-1E48-4809-973B-B2292C5A7D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FBE0-433D-423F-8E90-A3F5B397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A1C3-5CC8-4CF6-87E2-F2883D1BB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6295-D9D1-4623-B6B6-4798C8A61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292-38B1-4046-9D45-E6D065866D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1E8FF-BAF9-4A58-8C50-2BC80F7A9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78506-B8BA-4C93-912D-1C5AFFDFC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4857-9A66-4EC3-AF96-65858DF8BF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A9196-92E9-4FEC-A23A-3666434B6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0DF5-C8BE-47B1-9F21-E6ECD3A59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682EB-2513-40D5-8CAC-E9BBE8C3F4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91987-F6E7-4ECA-8C8D-DDCC2473EC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5F667E-6253-452D-AF5E-03712C0EF06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