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23641"/>
        <c:axId val="32114740"/>
      </c:barChart>
      <c:catAx>
        <c:axId val="41523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14740"/>
        <c:crosses val="autoZero"/>
        <c:auto val="1"/>
        <c:lblAlgn val="ctr"/>
        <c:lblOffset val="100"/>
        <c:noMultiLvlLbl val="0"/>
      </c:catAx>
      <c:valAx>
        <c:axId val="32114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23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007-A980-4D20-A8FC-D79A45C1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A42-D68E-4504-A076-687D5BEB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6D8-F567-4A54-83E0-979DCD22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146-B835-423F-B226-F5E3F1C4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F35-46B5-494A-9284-35976548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46F-D091-41AB-A92B-8210AECB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CEF-3CED-4639-8339-0B35388F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35F-6CB7-4952-B0A8-9CAFFF00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453-9149-4B3B-AD3E-F643E777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1ED-D76C-4AED-B106-C6D3B3A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555-B6BF-4CCB-8C71-161336F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F63-1578-4B2D-A8F3-76F0A65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94EA0-9255-49DD-B79A-3EF0A0070D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