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11449"/>
        <c:axId val="18526795"/>
      </c:barChart>
      <c:catAx>
        <c:axId val="75411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26795"/>
        <c:crosses val="autoZero"/>
        <c:auto val="1"/>
        <c:lblAlgn val="ctr"/>
        <c:lblOffset val="100"/>
        <c:noMultiLvlLbl val="0"/>
      </c:catAx>
      <c:valAx>
        <c:axId val="18526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11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969-3178-44F6-B692-F52883AE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E8A-EAC9-4C8B-A617-1A771890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CE9-D6D5-49E3-8B33-257C3EB4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B50E-14C9-47FC-85DC-5707B41E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3CD-EBC2-4045-9783-7A79CF06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80BA-68A2-45E2-8BE5-2F33EA9D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859-A167-4A6D-A28F-0AA0E7B6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EBF-755E-45FD-B5FE-D54A0F75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284-F763-4A24-9A0D-5C1D5759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935-005E-4728-80B5-CB7E67D0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AF8D-DA00-44F8-8C45-75BC207F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A494-6537-49C6-B44F-E13A288F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A1D28-FE65-429B-ABDC-5DAD187645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