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763800"/>
        <c:axId val="85229378"/>
      </c:barChart>
      <c:catAx>
        <c:axId val="927638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29378"/>
        <c:crosses val="autoZero"/>
        <c:auto val="1"/>
        <c:lblAlgn val="ctr"/>
        <c:lblOffset val="100"/>
        <c:noMultiLvlLbl val="0"/>
      </c:catAx>
      <c:valAx>
        <c:axId val="852293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638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1418-5292-4490-B4E6-D38248759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749A-9229-4027-AA19-336029DA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D460-DC10-45E8-A9EA-826564BD6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9E54-CF61-455B-8F09-CBD09D7BB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63EE-A9D8-4AA4-9558-613203ED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BA18-D195-455D-A1F8-E9EB6D02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F2C8-3467-48D5-9642-80F88304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55C7-135E-43A1-98BA-A626E868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412B-A80C-4BF1-9F95-E7A33E77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2858-5DD3-4895-BC0E-CC038F8C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D081-D6E2-4E64-AAC8-872C232E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181D-285D-46CC-BDC2-D6310592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3E56C-DEFB-44D1-9D99-EE0E645AB2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