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20708"/>
        <c:axId val="94926359"/>
      </c:barChart>
      <c:catAx>
        <c:axId val="75420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6359"/>
        <c:crosses val="autoZero"/>
        <c:auto val="1"/>
        <c:lblAlgn val="ctr"/>
        <c:lblOffset val="100"/>
        <c:noMultiLvlLbl val="0"/>
      </c:catAx>
      <c:valAx>
        <c:axId val="94926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0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ED0-AD85-43E6-A35C-65C09CFA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F6F-5DBB-4C93-8919-6565B4E9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64C-852C-4E05-AC9F-578973B2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888-EA63-4A6B-ABDC-8BE8BE83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4F4-124F-4A85-9642-1DAA9DAD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38F-E830-4478-A37D-A3C6D353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591-BC93-4B80-A968-0738DBE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526-3046-4739-9495-71506FA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3ED-4933-4888-BCBC-7A4CF2AB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26D-C014-4939-BB98-8326194A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BE8-9D0B-487B-9E61-AB5BDCD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A52-5EEC-4C9D-ADDE-291DEC0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62CF7-A9EE-450E-A4B6-50033A09FE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