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040520"/>
        <c:axId val="28354441"/>
      </c:barChart>
      <c:catAx>
        <c:axId val="280405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354441"/>
        <c:crosses val="autoZero"/>
        <c:auto val="1"/>
        <c:lblAlgn val="ctr"/>
        <c:lblOffset val="100"/>
        <c:noMultiLvlLbl val="0"/>
      </c:catAx>
      <c:valAx>
        <c:axId val="283544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0405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5D28-D6D7-47CD-83CD-4B8F1319C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3AA3-7B87-45B5-863E-3AAFDDDDA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0149-ACE8-4F99-8B97-B2031E620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C26B-D285-4499-91A9-80F37C7B0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653A-C598-4A97-AF57-F94AF23F1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35C2-37E2-478B-86CC-7D7482C38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4BF4-2B88-428B-A3A2-256746CD9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9986-5209-40A9-9653-800AAEDDA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E703-44F7-4A32-85BE-BB0C5FAC2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8DE4-D147-4E78-9F39-0EFD6AA3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8D00-C39F-4A63-9378-7D139AD48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46FA-D6DE-400A-975A-2C96C1FF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EDEC06-EA24-472B-B87A-F72D6614D43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