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84322"/>
        <c:axId val="14733676"/>
      </c:barChart>
      <c:catAx>
        <c:axId val="77284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33676"/>
        <c:crosses val="autoZero"/>
        <c:auto val="1"/>
        <c:lblAlgn val="ctr"/>
        <c:lblOffset val="100"/>
        <c:noMultiLvlLbl val="0"/>
      </c:catAx>
      <c:valAx>
        <c:axId val="14733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84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1B2-914E-4EEE-820D-6182EFE2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43B-2D38-43AA-BCA2-F26B9A49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49B-1492-47E2-A913-57BCCB7C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286-8DA1-4AE0-9549-3399169D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181-7D2B-4F4B-9CB3-18B54432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B96-1521-4133-B280-5B085A54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972-2D56-493C-9F41-66A90FDF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D18-F089-4F11-A905-CD7A9D8C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8FE-5B06-4A9F-9866-4032B56C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75E-F188-4C10-A549-1227AD2C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456-C620-4301-8D53-77F26E27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168-8A27-4315-B17F-97E948D7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46203-78F8-40B5-958B-B4FD793E23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