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9084"/>
        <c:axId val="34274321"/>
      </c:barChart>
      <c:catAx>
        <c:axId val="5459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74321"/>
        <c:crosses val="autoZero"/>
        <c:auto val="1"/>
        <c:lblAlgn val="ctr"/>
        <c:lblOffset val="100"/>
        <c:noMultiLvlLbl val="0"/>
      </c:catAx>
      <c:valAx>
        <c:axId val="34274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9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F3E-641D-4F12-8C36-F8DAA5E3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AB2-DED6-4547-8318-C6E1BDF5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379-3EED-41FF-BA39-AB5A3231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C11-ED4F-4706-A666-2FD6CEB5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576-7E61-4728-8781-394CBE63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98D-D4AE-43C8-AA51-BF35617A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079-02D4-4A3E-B9C6-B72C26E2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6FA-9C69-4473-BC2E-422DB25F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5E2-D2D5-4824-A3F1-ABB4E6A3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CDB-FBFF-448F-B2B9-E46DBB68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2C7-F1F2-4257-B4D4-70B0A11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7B9-4770-481E-B7BB-5E194B60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6FFA1-609D-428C-8C2C-17C48EC7F4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