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41082"/>
        <c:axId val="91398970"/>
      </c:barChart>
      <c:catAx>
        <c:axId val="89941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98970"/>
        <c:crosses val="autoZero"/>
        <c:auto val="1"/>
        <c:lblAlgn val="ctr"/>
        <c:lblOffset val="100"/>
        <c:noMultiLvlLbl val="0"/>
      </c:catAx>
      <c:valAx>
        <c:axId val="91398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1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481-D190-45B5-86CB-E8A31C54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0B8-324D-4E46-ADC8-73E4FA1D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1D2-D940-4852-AE38-5D0DB21D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C9D-925A-46DB-BBC9-0B6B89C3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F67-BB27-413E-9382-4978C48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735-8FAA-4B73-9164-ACA1241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1D0-C51B-47F6-BC9E-5AC51F87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D8C-1468-4D72-B798-FA4B9DF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D3B-F061-47D6-B908-1D953FC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132-3A3E-46F5-BCAD-E25DC9F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99E-B2AB-4B48-93AE-98842A5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E32-4634-42A8-BF7D-67A36227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4498D-8456-4551-A990-8C4141A7B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