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02919"/>
        <c:axId val="50225358"/>
      </c:barChart>
      <c:catAx>
        <c:axId val="24702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5358"/>
        <c:crosses val="autoZero"/>
        <c:auto val="1"/>
        <c:lblAlgn val="ctr"/>
        <c:lblOffset val="100"/>
        <c:noMultiLvlLbl val="0"/>
      </c:catAx>
      <c:valAx>
        <c:axId val="50225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2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C16-0924-48C4-A083-C7A9CB68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77C-8DD1-4A89-B120-CBC6CDCD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F84-C56D-4813-99ED-5A6761CF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481-7B9D-4679-B0EC-A941B632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612-6E4A-4851-9466-BA60B2AA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235-607D-48F5-AB77-57870636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959-057B-4EF6-9B98-8F811608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F6F-ABF5-4DA3-B69D-7D0D8CAC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83D-902F-4E56-A5A4-EAB633AD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EE7-1B5E-43C0-BFE1-50AA6E8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0F4-D04A-4C28-92C8-3C14529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5B3-7A71-4B94-9A06-B1DEE75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B57B-47BF-4241-88FF-3AC0FF8E2A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